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319-EA1F-448D-85F0-66D3B53A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710-70BE-4004-9254-1EEBD27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FD6-07E2-48ED-93B0-632D00BC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770-3881-4699-9A7E-FBEAECC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3CD-CDD0-4A21-A30C-164AF38D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F6E1-D3D9-489C-A172-CAE4366D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7B56-F1ED-4F1E-9901-4F19E2C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E9E-8074-4AD2-A00F-DF66412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2837-31FB-451E-BB8E-58713BB1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C4B-0B9E-40DD-BB84-F5BECF2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D3F2-2DB7-473F-8F84-08AF104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E6C-A907-44C9-B368-F5C12BF1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6641-6080-4907-8FFE-ECB35E9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4B3-35C9-4701-A77D-BB25FFF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EFF5-07F7-4351-A32B-DE5BA295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E8D5-6D5E-4649-8350-FC482DF2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8EE4-1A89-47A7-B271-F47FAE39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AC97-85E7-44D8-ACC7-7F282DD7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2BAA-84FD-4E23-96BB-F2A61E5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E3A4-18E8-42F3-9FBE-B02ABBF0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9CF3-1A8D-49CC-B817-00AE0A74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B94E-6E44-4393-B324-87C1DAE6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257-E2F1-4E9E-8E1C-4310425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962C-2C64-483B-9C8A-98FD1D6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FEEE-B4A1-4440-AFD1-69A8DD1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7F85-640D-4A6A-AEED-D5320E3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D756-12D3-484D-8BF7-B07CAA5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1C5F-0120-432F-90D0-83DA75E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FF54-04A5-439A-A133-A9972F87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D29B-D5F3-4D45-95A3-B946D6FC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3694-7FB0-4BB0-95CA-62CF3777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BA95-93E1-41E5-8ADB-46CAD398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A865-0681-491F-978E-114A3A0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36A-252B-4568-86C5-50F005B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B9BD-FCBA-4310-8D96-FFD68935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3E79-44D4-4C69-A603-F28A20E7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F3B3-00C3-45B1-945B-AF6D420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EB6A-5464-4335-B1CB-28E1BEB9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96FC2-F1D2-4353-BE88-C792E90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8F0B-9370-4FFD-9E30-BCF29A0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3119-6E14-413C-812D-0B62A3B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B014-89FD-4CCD-9ADA-7B6569D4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8CA8-7D9D-4148-BD77-EAFC16D8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AA7A-C52F-4AA6-9D62-FED257C6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8C1-BBD3-4550-9E67-99B494F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139D-A603-4C75-AC98-ECFC8595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343A-7132-45D1-ADAE-6AAD125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DD72-6F99-4BAB-9E16-F633148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35B7-392A-4F86-9EBF-50645B9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8D1C-A954-46F0-9810-ECCDF41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763A9-02C8-4AFA-A968-208E102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4B0A-544E-404F-84AE-6156028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A4F2-0588-4E37-9114-9788F80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572D-5FAE-4064-AABD-220AB43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C4C1-728B-45CB-A6E0-CF848FC3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745-60FF-40A4-8723-5B8D2CE4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5013-4754-4CEA-85F6-9E3F4094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43B-0F1C-4A89-8137-56F59E3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489-4AC0-48E3-8926-6CC0DE0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9F2-9726-443B-BFD2-7897F8F4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668-DC45-45E5-8E5A-BA5133B2DC5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F548-54AF-4A1F-83B2-F167F0485BC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2EC-494B-4F6B-A89D-7747182061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5302-9F1B-4171-B2F6-6F7653256E8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6111-B138-4847-913A-39531E76F6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Урок математик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менение нового знания 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Вычислите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9516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говор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1052280"/>
            <a:ext cx="8136000" cy="511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дна у человека мать, одна у него и род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2556000" y="1776240"/>
            <a:ext cx="60721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28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ская башн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2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бота в пара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77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ина минутной стрелки курантов 3,28.Высота цифр на циферблате составляет  9/41 от длины минутной стрелки. Вычислите высоту цифр на цифербл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Часы на Спасской башне имели 25 колоколов для исполнения мелодий. Число колоколов, которые отбивали время, составляло 0,4 от числа колоколов отбивавших мелодию. Сколько колоколов отбивали врем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амостоятельная работа (тест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945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8d3e"/>
                </a:solidFill>
                <a:uFillTx/>
                <a:latin typeface="Verdana"/>
              </a:rPr>
              <a:t>Рефлекс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Рисунок 11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322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: 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28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комить учащихся с задачами на нахождение дроби от числа и решением их с помощью умн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ить в процессе решения задач находить дробь от чис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ть правило нахождения дроби от числа при решении задач с практическим содержа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Прежде чем решать задачу - прочитай условие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Жак Адамар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франц.математик, механик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Если хочешь научиться плавать- смело входи в воду, а хочешь научиться решать задачи- решай их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.Пой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швейцарский математик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Блиц-опрос: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628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умножить дробь на натуральное число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умножить дробь на дроб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умножить смешанные числа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то значит сократить дроб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представить смешанное число в виде неправильной дроби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то такое 1%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найти несколько процентов от числа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числи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1209600" y="971640"/>
            <a:ext cx="6724800" cy="49147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1835280" y="5373720"/>
            <a:ext cx="433080" cy="287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2484360" y="5373720"/>
            <a:ext cx="503280" cy="358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3203640" y="5445000"/>
            <a:ext cx="43164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1"/>
          <p:cNvSpPr/>
          <p:nvPr/>
        </p:nvSpPr>
        <p:spPr>
          <a:xfrm>
            <a:off x="3851280" y="5445000"/>
            <a:ext cx="43344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4500720" y="5445000"/>
            <a:ext cx="43164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5219640" y="5445000"/>
            <a:ext cx="43200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5867280" y="5445000"/>
            <a:ext cx="43344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6588000" y="5445000"/>
            <a:ext cx="43200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6"/>
          <p:cNvSpPr/>
          <p:nvPr/>
        </p:nvSpPr>
        <p:spPr>
          <a:xfrm>
            <a:off x="7236000" y="5445000"/>
            <a:ext cx="431640" cy="287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иск реш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052280"/>
            <a:ext cx="818352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.В праздничном концерте ко Дню матери принимали участие  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  девочки и несколько мальчиков. Число мальчиков составляло  </a:t>
            </a:r>
            <a:r>
              <a:rPr b="0" lang="ru-RU" sz="23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  от количества девочек. Сколько  мальчиков приняли участие в концерте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Девочки – 32 чел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Мальчики -? чел.,5/8 от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1 способ: 32 : 8 ∙ 5 = 20 (мальчиков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Как можно получить такой же ответ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2 способ: 32 ∙ 5/8 = 20 (мальчиков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Ответ: 120 мальчиков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Прямая соединительная линия 4"/>
          <p:cNvSpPr/>
          <p:nvPr/>
        </p:nvSpPr>
        <p:spPr>
          <a:xfrm>
            <a:off x="4859280" y="3573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6"/>
          <p:cNvSpPr/>
          <p:nvPr/>
        </p:nvSpPr>
        <p:spPr>
          <a:xfrm flipV="1">
            <a:off x="579600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 стрелкой 9"/>
          <p:cNvCxnSpPr/>
          <p:nvPr/>
        </p:nvCxnSpPr>
        <p:spPr>
          <a:xfrm flipH="1">
            <a:off x="3850920" y="3212640"/>
            <a:ext cx="194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Прямоугольник 13"/>
          <p:cNvSpPr/>
          <p:nvPr/>
        </p:nvSpPr>
        <p:spPr>
          <a:xfrm>
            <a:off x="539640" y="2708280"/>
            <a:ext cx="6193080" cy="936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 мальчика было 800 рублей. На покупку букета для мамы он потратил 50% всех денег. Сколько стоил буке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о– 800 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тратил -? р.,50% о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0% = 1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способ: 800 : 2 ∙ 1 = 400 (р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можно получить такой же отве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способ: 800 ∙ 1/2  = 400 (р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400 руб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ая соединительная линия 4"/>
          <p:cNvSpPr/>
          <p:nvPr/>
        </p:nvSpPr>
        <p:spPr>
          <a:xfrm>
            <a:off x="5148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6"/>
          <p:cNvSpPr/>
          <p:nvPr/>
        </p:nvSpPr>
        <p:spPr>
          <a:xfrm flipV="1">
            <a:off x="644364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8"/>
          <p:cNvCxnSpPr/>
          <p:nvPr/>
        </p:nvCxnSpPr>
        <p:spPr>
          <a:xfrm flipH="1">
            <a:off x="4211280" y="1988640"/>
            <a:ext cx="223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Прямоугольник 9"/>
          <p:cNvSpPr/>
          <p:nvPr/>
        </p:nvSpPr>
        <p:spPr>
          <a:xfrm>
            <a:off x="611280" y="1916280"/>
            <a:ext cx="6192720" cy="9363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Не менее  1/10 части суток должен составлять активный отдых на свежем воздухе. Сколько времени вы должны гулять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утки-24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дых - ? Ч, 1/10 о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Решение: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способ: 24:10 ·1=2,4(ч) - гулять на свежем воздух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к можно получить такой же ответ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 способ: 24 · 0,1 = 2,4 - гулять на свежем воздух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вет: 2,4 ча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ая соединительная линия 4"/>
          <p:cNvSpPr/>
          <p:nvPr/>
        </p:nvSpPr>
        <p:spPr>
          <a:xfrm>
            <a:off x="4500720" y="28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"/>
          <p:cNvSpPr/>
          <p:nvPr/>
        </p:nvSpPr>
        <p:spPr>
          <a:xfrm flipV="1">
            <a:off x="5219640" y="242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8"/>
          <p:cNvCxnSpPr/>
          <p:nvPr/>
        </p:nvCxnSpPr>
        <p:spPr>
          <a:xfrm flipH="1">
            <a:off x="2842560" y="2420640"/>
            <a:ext cx="23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Прямоугольник 9"/>
          <p:cNvSpPr/>
          <p:nvPr/>
        </p:nvSpPr>
        <p:spPr>
          <a:xfrm>
            <a:off x="684360" y="2133720"/>
            <a:ext cx="6191280" cy="93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хождение дроби от чис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628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Чтобы найти дробь от числ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ужно умножить число на эту дроб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4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7699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0T19:13:34Z</dcterms:created>
  <dc:creator>Пользователь</dc:creator>
  <dc:description/>
  <dc:language>en-US</dc:language>
  <cp:lastModifiedBy>Пользователь</cp:lastModifiedBy>
  <dcterms:modified xsi:type="dcterms:W3CDTF">2023-11-21T02:41:34Z</dcterms:modified>
  <cp:revision>9</cp:revision>
  <dc:subject/>
  <dc:title>Урок математики</dc:title>
</cp:coreProperties>
</file>