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0F6-AD3F-46E5-8147-0A9AD3702F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F311-6877-4F7E-BDB0-46AF5272741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2B5-B75A-45AD-90B1-74E8CAFC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C53-D94C-4A2F-B02A-EDD115A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36E-561D-4A6A-9AC9-01FE2002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65B-5B59-4369-AE0C-A7E2CB5B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63B4-6626-4E4A-89BE-333254D5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0FE-AA57-4131-87D8-7BCB86B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5E9D-1A0A-441C-AC94-C010153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E15-2325-4BE2-8BAB-19B277F4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3BFA-332A-4B91-9E4D-9B5D47A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6EF-7296-4B68-96FB-BF03254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395-33E1-4316-9A0F-AEBC3EA0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F83-5877-4DDF-B88C-58A2DCA2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76B-AD52-403C-BE84-A8760CF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0B8-D154-4FEC-93D9-8E41684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8195-DE2E-4586-AA30-F525C1E2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745F-3EF3-4E92-8AD1-0FD4D78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A1A-43BA-4359-910E-7492383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FB-F022-4F42-A3E8-DB7538A0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AA9-ABAF-4C29-AC53-4BD56AE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A2D-E609-42E6-8CF2-6470D3D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F0F-2AD2-4DAA-8040-3950CC43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452-DA6E-4D13-B727-44ECA33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7AD-95F4-4306-BC70-3B57A6E6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C2B-E2D1-4F07-8A24-8C53C32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8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73E-2317-4787-9FDE-798148066DE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8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4A79-5821-4DDA-ADF9-8E8BFB94AD4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Глобальные проблемы человечества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рок-конференция по географи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Автор: Стынга В.В.,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читель географии МКОУ «В(С)ОШ №10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280" y="260280"/>
            <a:ext cx="7772400" cy="612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 выделений хлора  и бромсодержащего фреон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лабление озонового слоя усиливает поток солнечной радиации на землю и вызывает у людей рост числа раковых заболеваний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Мер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граничение использования фрео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Истребление лес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Picture 4" descr="081"/>
          <p:cNvPicPr/>
          <p:nvPr/>
        </p:nvPicPr>
        <p:blipFill>
          <a:blip r:embed="rId1"/>
          <a:stretch/>
        </p:blipFill>
        <p:spPr>
          <a:xfrm>
            <a:off x="1042920" y="1628640"/>
            <a:ext cx="5342040" cy="3672000"/>
          </a:xfrm>
          <a:prstGeom prst="rect">
            <a:avLst/>
          </a:prstGeom>
          <a:ln w="63360">
            <a:solidFill>
              <a:srgbClr val="339966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1116000" y="54435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скорость «облысения» Земли в этом веке почти в двадцать раз выше, чем в прошлом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i?id=160608992-15"/>
          <p:cNvPicPr/>
          <p:nvPr/>
        </p:nvPicPr>
        <p:blipFill>
          <a:blip r:embed="rId2"/>
          <a:stretch/>
        </p:blipFill>
        <p:spPr>
          <a:xfrm>
            <a:off x="6659640" y="1628640"/>
            <a:ext cx="2016000" cy="172908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pic>
        <p:nvPicPr>
          <p:cNvPr id="147" name="Picture 11" descr="i?id=3023945-11"/>
          <p:cNvPicPr/>
          <p:nvPr/>
        </p:nvPicPr>
        <p:blipFill>
          <a:blip r:embed="rId3"/>
          <a:stretch/>
        </p:blipFill>
        <p:spPr>
          <a:xfrm>
            <a:off x="6659640" y="3500280"/>
            <a:ext cx="2016000" cy="180036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400" cy="597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рубка лесов для нужд человека при  отсутствии технологий восстановлени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озия почвы, «парниковый эффект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менения клим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Мер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ститут всемирных ресурс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ld Resources Institut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i?id=25451046-11"/>
          <p:cNvPicPr/>
          <p:nvPr/>
        </p:nvPicPr>
        <p:blipFill>
          <a:blip r:embed="rId1"/>
          <a:stretch/>
        </p:blipFill>
        <p:spPr>
          <a:xfrm>
            <a:off x="7236000" y="3933720"/>
            <a:ext cx="1476360" cy="1656000"/>
          </a:xfrm>
          <a:prstGeom prst="rect">
            <a:avLst/>
          </a:prstGeom>
          <a:ln w="5076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арниковый эффек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1" name="i-main-pic" descr="Картинка 1 из 3921"/>
          <p:cNvPicPr/>
          <p:nvPr/>
        </p:nvPicPr>
        <p:blipFill>
          <a:blip r:embed="rId1"/>
          <a:srcRect l="675" t="0" r="0" b="0"/>
          <a:stretch/>
        </p:blipFill>
        <p:spPr>
          <a:xfrm>
            <a:off x="1662120" y="1809720"/>
            <a:ext cx="6294600" cy="4498920"/>
          </a:xfrm>
          <a:prstGeom prst="rect">
            <a:avLst/>
          </a:prstGeom>
          <a:ln w="63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404640"/>
            <a:ext cx="777240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ст количества C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атмосфере из-за того, что в качестве источника энергии стали широко применяться различные виды ископаемого топлива (уголь и нефть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Мер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отский протокол – квоты на выброс C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атмосфе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-main-pic" descr="Картинка 6 из 3921"/>
          <p:cNvPicPr/>
          <p:nvPr/>
        </p:nvPicPr>
        <p:blipFill>
          <a:blip r:embed="rId1"/>
          <a:stretch/>
        </p:blipFill>
        <p:spPr>
          <a:xfrm>
            <a:off x="6516720" y="2924280"/>
            <a:ext cx="1739880" cy="2109600"/>
          </a:xfrm>
          <a:prstGeom prst="rect">
            <a:avLst/>
          </a:prstGeom>
          <a:ln w="5076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З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агрязнение окружающей сред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5" name="Picture 4" descr="i?id=39047753-05"/>
          <p:cNvPicPr/>
          <p:nvPr/>
        </p:nvPicPr>
        <p:blipFill>
          <a:blip r:embed="rId1"/>
          <a:stretch/>
        </p:blipFill>
        <p:spPr>
          <a:xfrm>
            <a:off x="1187280" y="1844640"/>
            <a:ext cx="2376720" cy="230508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pic>
        <p:nvPicPr>
          <p:cNvPr id="156" name="Picture 5" descr="i?id=74812836-05"/>
          <p:cNvPicPr/>
          <p:nvPr/>
        </p:nvPicPr>
        <p:blipFill>
          <a:blip r:embed="rId2"/>
          <a:stretch/>
        </p:blipFill>
        <p:spPr>
          <a:xfrm>
            <a:off x="3708360" y="2492280"/>
            <a:ext cx="2376360" cy="259236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pic>
        <p:nvPicPr>
          <p:cNvPr id="157" name="Picture 6" descr="i?id=61681450-00"/>
          <p:cNvPicPr/>
          <p:nvPr/>
        </p:nvPicPr>
        <p:blipFill>
          <a:blip r:embed="rId3"/>
          <a:stretch/>
        </p:blipFill>
        <p:spPr>
          <a:xfrm>
            <a:off x="6372360" y="3645000"/>
            <a:ext cx="2232000" cy="24480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158" name="Rectangle 8"/>
          <p:cNvSpPr/>
          <p:nvPr/>
        </p:nvSpPr>
        <p:spPr>
          <a:xfrm>
            <a:off x="1835280" y="851040"/>
            <a:ext cx="50227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86920" y="259920"/>
            <a:ext cx="7556760" cy="613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несение в окружающую среду новых, не характерных для нее физических, химических и биологических агентов или превышение их естественного уровн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ращение и мут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ого разнообраз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Мер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храна природ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680" y="333000"/>
            <a:ext cx="7772400" cy="604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Экономическ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глобальные проблем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родовольственная проблем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олод – явление не новое. Лишь в Китае  в Х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Х  веке умерло от голода 100 млн. челов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а последние 50 лет в Индии умерло 20 млн. человек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фриканский континент – «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олюс голода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» нашей план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егодня  мы чаще слышим не глагол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голодать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»,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 глагол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недоедать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i?id=99931798-05"/>
          <p:cNvPicPr/>
          <p:nvPr/>
        </p:nvPicPr>
        <p:blipFill>
          <a:blip r:embed="rId1"/>
          <a:stretch/>
        </p:blipFill>
        <p:spPr>
          <a:xfrm>
            <a:off x="5508720" y="4564080"/>
            <a:ext cx="3166920" cy="1874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4" name="Picture 9" descr="i?id=121773283-11"/>
          <p:cNvPicPr/>
          <p:nvPr/>
        </p:nvPicPr>
        <p:blipFill>
          <a:blip r:embed="rId2"/>
          <a:stretch/>
        </p:blipFill>
        <p:spPr>
          <a:xfrm>
            <a:off x="2411280" y="5138640"/>
            <a:ext cx="2521080" cy="1386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258920" y="907920"/>
          <a:ext cx="7634160" cy="5712120"/>
        </p:xfrm>
        <a:graphic>
          <a:graphicData uri="http://schemas.openxmlformats.org/drawingml/2006/table">
            <a:tbl>
              <a:tblPr/>
              <a:tblGrid>
                <a:gridCol w="1635120"/>
                <a:gridCol w="1409760"/>
                <a:gridCol w="1780920"/>
                <a:gridCol w="1319400"/>
                <a:gridCol w="148896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я(2016г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герия(2016г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ы 2016г. (руб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 кг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 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фе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фе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ощ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ощ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укт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укт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с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с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к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 к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к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йц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 шт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йц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(1 шт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р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р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 к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,35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,25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44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404280"/>
            <a:ext cx="7772400" cy="597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Мир достаточно велик, чтоб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удовлетворить нужды любого человека, но слишком мал, чтобы удовлетворить людскую жадность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хатма Ган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-main-pic" descr="Картинка 8 из 371"/>
          <p:cNvPicPr/>
          <p:nvPr/>
        </p:nvPicPr>
        <p:blipFill>
          <a:blip r:embed="rId1"/>
          <a:stretch/>
        </p:blipFill>
        <p:spPr>
          <a:xfrm>
            <a:off x="1258920" y="620640"/>
            <a:ext cx="7129440" cy="57610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404280"/>
            <a:ext cx="7772400" cy="59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строрастущее населен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решенность демограф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равномерность развития – Проблема «Север – Ю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од, болезни, эпидем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Меры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просто помочь деньгами, а науч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 зарабатывать, поделивши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ями и местом на мировом рын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стощение природных ресурс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есурсобеспеченность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голь                                  808 лет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ефть                                  22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риродный газ                  87 л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Железная руда                   664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 2020 год из недр Земли было извлечено с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инерального сырья, что заняло бы железнодорож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став протяженностью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7 млн. к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который мог 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поясать земной шар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04280"/>
            <a:ext cx="7772400" cy="59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меренное потребление исчерпаемых минеральных ресур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Дефицит ресурсо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Мер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щение к неисчерпаем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ным ресурсам – энергии солнца,  ветра, морских прил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680" y="475920"/>
            <a:ext cx="7772400" cy="576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оциальны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глобальные проблем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емографическая  проблем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 населения Зем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8920" y="2565360"/>
          <a:ext cx="7345440" cy="350208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2772000"/>
                <a:gridCol w="1836720"/>
              </a:tblGrid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0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лрд.339 мл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лрд.500 мл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лрд.756 мл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г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лрд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.(янв.-апрель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лрд.836 мл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549360"/>
            <a:ext cx="7772400" cy="575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Times New Roman"/>
              </a:rPr>
              <a:t>Политические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Times New Roman"/>
              </a:rPr>
              <a:t>глобальные проблем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Проблема войны и ми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680" y="1413000"/>
            <a:ext cx="7772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ГРОЗА ПРИМЕНЕНИЯ ЯДЕРНОГО ОРУЖ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лены  «ядерного клуба»: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США, Россия, Франция, Великобритания, Кита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овые ядерные державы»: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Индия, Пакистан, Северная Корея, Израил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ют над ядерными программами: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Ливия, Ир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5370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15640" y="475920"/>
            <a:ext cx="7559640" cy="611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в XX веке в двух миро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локальных войн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гиб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е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0 млн. челове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i?id=66739156-13"/>
          <p:cNvPicPr/>
          <p:nvPr/>
        </p:nvPicPr>
        <p:blipFill>
          <a:blip r:embed="rId1"/>
          <a:stretch/>
        </p:blipFill>
        <p:spPr>
          <a:xfrm>
            <a:off x="5219640" y="3716280"/>
            <a:ext cx="266400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1" name="Picture 9" descr="i?id=38481621-06"/>
          <p:cNvPicPr/>
          <p:nvPr/>
        </p:nvPicPr>
        <p:blipFill>
          <a:blip r:embed="rId2"/>
          <a:stretch/>
        </p:blipFill>
        <p:spPr>
          <a:xfrm>
            <a:off x="1692360" y="3716280"/>
            <a:ext cx="2663640" cy="25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Обсуждаем проблемный вопро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Times New Roman"/>
              </a:rPr>
              <a:t>Неизбежен ли крах человеческой цивилизации из-за глобальных проблем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блемный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618080"/>
          </a:xfrm>
          <a:prstGeom prst="rect">
            <a:avLst/>
          </a:prstGeom>
          <a:solidFill>
            <a:srgbClr val="ece0d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Times New Roman"/>
              </a:rPr>
              <a:t>Неизбежен ли крах человеческой цивилизации из-за глобальных проблем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Береги планет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2460600" y="1771560"/>
            <a:ext cx="498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лючи к тесту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71640" y="2060640"/>
          <a:ext cx="7993080" cy="1332000"/>
        </p:xfrm>
        <a:graphic>
          <a:graphicData uri="http://schemas.openxmlformats.org/drawingml/2006/table">
            <a:tbl>
              <a:tblPr/>
              <a:tblGrid>
                <a:gridCol w="1042920"/>
                <a:gridCol w="692280"/>
                <a:gridCol w="691920"/>
                <a:gridCol w="693720"/>
                <a:gridCol w="696960"/>
                <a:gridCol w="693720"/>
                <a:gridCol w="692280"/>
                <a:gridCol w="696960"/>
                <a:gridCol w="691920"/>
                <a:gridCol w="693720"/>
                <a:gridCol w="7066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а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476280"/>
            <a:ext cx="7772400" cy="5905440"/>
          </a:xfrm>
          <a:prstGeom prst="rect">
            <a:avLst/>
          </a:prstGeom>
          <a:solidFill>
            <a:srgbClr val="e2d5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ермин  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«Глобальный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от  </a:t>
            </a:r>
            <a:r>
              <a:rPr b="0" i="1" lang="ru-RU" sz="3600" spc="-1" strike="noStrike">
                <a:solidFill>
                  <a:srgbClr val="663300"/>
                </a:solidFill>
                <a:latin typeface="Times New Roman"/>
              </a:rPr>
              <a:t>фр. global – всеобщ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663300"/>
                </a:solidFill>
                <a:latin typeface="Times New Roman"/>
              </a:rPr>
              <a:t>от лат. globus – ша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дтверждает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ю о связ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еятельности человека с состояни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биосферы</a:t>
            </a:r>
            <a:r>
              <a:rPr b="0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(всей окружающей его среды, которая поддерживает жизнь на Земле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i?id=21456875-06"/>
          <p:cNvPicPr/>
          <p:nvPr/>
        </p:nvPicPr>
        <p:blipFill>
          <a:blip r:embed="rId1"/>
          <a:stretch/>
        </p:blipFill>
        <p:spPr>
          <a:xfrm>
            <a:off x="6804000" y="1268280"/>
            <a:ext cx="1728720" cy="1729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нятие глобальных пробле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824720"/>
          </a:xfrm>
          <a:prstGeom prst="rect">
            <a:avLst/>
          </a:prstGeom>
          <a:solidFill>
            <a:srgbClr val="ece0d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ая половина ХХ 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Глобальные проблемы – это проблемы выживания челов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ые проблемы, возникающие перед человечеством, могут считаться глобальными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так к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затрагивают все человеч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асаясь интересов и судеб всех стран, народов и социальных слое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не признают грани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приводят к значительным поте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кономического и социального характера, а иногда и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к угрозе сущ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мой цивилиз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требуют широк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ждународного сотрудничества для решения этих пробл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чины глобальных пробле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537080"/>
          </a:xfrm>
          <a:prstGeom prst="rect">
            <a:avLst/>
          </a:prstGeom>
          <a:solidFill>
            <a:srgbClr val="ece0d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громные масштабы человеческой деятельности – «давление на приро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еспособность человека рационально распорядиться своей могучей сил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Глобализация  м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ТР, НТ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i?id=88666686-03"/>
          <p:cNvPicPr/>
          <p:nvPr/>
        </p:nvPicPr>
        <p:blipFill>
          <a:blip r:embed="rId1"/>
          <a:stretch/>
        </p:blipFill>
        <p:spPr>
          <a:xfrm>
            <a:off x="5508720" y="4005360"/>
            <a:ext cx="2663640" cy="2232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9228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лассификация глобальных проблем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71640" y="981000"/>
          <a:ext cx="7704000" cy="5083200"/>
        </p:xfrm>
        <a:graphic>
          <a:graphicData uri="http://schemas.openxmlformats.org/drawingml/2006/table">
            <a:tbl>
              <a:tblPr/>
              <a:tblGrid>
                <a:gridCol w="1800000"/>
                <a:gridCol w="1841760"/>
                <a:gridCol w="1915920"/>
                <a:gridCol w="2146320"/>
              </a:tblGrid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зоновая дыра»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ребление лесо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рниковый эффект» (глобальное потепление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ение окружающей среды: атмосферы, вод мирового океана, продуктов природы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вольственная проблема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юса развития: «Север-Юг»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 пределов экономического роста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щение природных ресурсо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графическая проблема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 охраны здоровья (рак, СПИД, атипичная пневмония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 уровня образования (в мире - 1 миллиард неграмотных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ические, конфессиональные конфликты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 войны и мира: возможность перерастания локальных конфликтов в глобальные, опасность ядерной войны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оризм (международный, внутриполитический, уголовный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0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404640"/>
            <a:ext cx="777240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Times New Roman"/>
              </a:rPr>
              <a:t>Экологическ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Times New Roman"/>
              </a:rPr>
              <a:t>глобальные проблем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Озоновые ды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9" name="Picture 4" descr="200px-Largest_ever_Ozone_hole_sept2000_with_scale"/>
          <p:cNvPicPr/>
          <p:nvPr/>
        </p:nvPicPr>
        <p:blipFill>
          <a:blip r:embed="rId1"/>
          <a:stretch/>
        </p:blipFill>
        <p:spPr>
          <a:xfrm>
            <a:off x="1332000" y="1773360"/>
            <a:ext cx="3744720" cy="3311280"/>
          </a:xfrm>
          <a:prstGeom prst="rect">
            <a:avLst/>
          </a:prstGeom>
          <a:ln w="63360">
            <a:solidFill>
              <a:srgbClr val="339966"/>
            </a:solidFill>
            <a:miter/>
          </a:ln>
        </p:spPr>
      </p:pic>
      <p:sp>
        <p:nvSpPr>
          <p:cNvPr id="140" name="Rectangle 5"/>
          <p:cNvSpPr/>
          <p:nvPr/>
        </p:nvSpPr>
        <p:spPr>
          <a:xfrm>
            <a:off x="3059280" y="5299200"/>
            <a:ext cx="56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е антарктической озоновой дыры, сентябрь 2016 г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200px-Ozone_over_southern_hemisphere_Sep11_1957-2001"/>
          <p:cNvPicPr/>
          <p:nvPr/>
        </p:nvPicPr>
        <p:blipFill>
          <a:blip r:embed="rId2"/>
          <a:stretch/>
        </p:blipFill>
        <p:spPr>
          <a:xfrm>
            <a:off x="5580000" y="2565360"/>
            <a:ext cx="24814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Пользователь Windows</cp:lastModifiedBy>
  <dcterms:modified xsi:type="dcterms:W3CDTF">2021-04-23T06:15:18Z</dcterms:modified>
  <cp:revision>168</cp:revision>
  <dc:subject/>
  <dc:title>ОСОБЕННОСТИ ДРЕВНИХ ЦИВИЛИЗАЦИЙ.</dc:title>
</cp:coreProperties>
</file>